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85E5-8CB3-4753-8460-77E99E02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D1DE-9F6D-4949-8652-68BCDA5F0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147F-A8E0-4232-B6EF-849A8A13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A6A-BB56-4C22-9C91-923E5D2E1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038F-B18D-4FFF-97C4-EC0693BB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1C5-3A5C-464B-93DE-FFCB826C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66D-1AD7-46BF-AF49-4A48C0DBB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9B3-51CC-4EF5-B172-34C37E32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6C7-C8AE-4741-A48A-8FEE237C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133-6C04-4848-A053-75D2F8C6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A05-BBAC-4645-A2F6-C4071327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0FA7-6A4B-42B0-9B51-BEA5ABA05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1486-075D-4D7C-A3B7-BB4B9C8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16D0-A223-4343-89E0-18BF5222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F05-CCF3-4068-B49F-A4EFF6C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CBBF-DEDB-4BF4-917C-5CBA9388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B0E-0AB3-4A81-B44D-A1E71F173C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85988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doni MT Black"/>
              </a:rPr>
              <a:t>Development of the urinary bladder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odoni MT Black"/>
              </a:rPr>
              <a:t>and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Bodoni MT Black"/>
              </a:rPr>
              <a:t>Ureth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5359320" y="627372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Arial"/>
              </a:rPr>
              <a:t>Dr Rania Ga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Division of the primitive urogenital sin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4654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ntrance of the mesonephric ducts into the primitive urogenital sinus divides it i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 An upper part called the “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vesico-urethral canal (3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A lower part called the “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finitive urogenital sinus”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s subdivided i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- A pelvic part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B- A phalic part (4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osed by the urogenital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u3yf2_devuretre"/>
          <p:cNvPicPr/>
          <p:nvPr/>
        </p:nvPicPr>
        <p:blipFill>
          <a:blip r:embed="rId1"/>
          <a:stretch/>
        </p:blipFill>
        <p:spPr>
          <a:xfrm>
            <a:off x="4859280" y="1557360"/>
            <a:ext cx="3745080" cy="5300640"/>
          </a:xfrm>
          <a:prstGeom prst="rect">
            <a:avLst/>
          </a:prstGeom>
          <a:ln w="0">
            <a:noFill/>
          </a:ln>
        </p:spPr>
      </p:pic>
      <p:sp>
        <p:nvSpPr>
          <p:cNvPr id="84" name="Line 5"/>
          <p:cNvSpPr/>
          <p:nvPr/>
        </p:nvSpPr>
        <p:spPr>
          <a:xfrm>
            <a:off x="5435640" y="3429000"/>
            <a:ext cx="11523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6443640" y="4005000"/>
            <a:ext cx="0" cy="7189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5867280" y="4149360"/>
            <a:ext cx="505080" cy="93492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077920" y="0"/>
            <a:ext cx="50799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7346880" y="260280"/>
            <a:ext cx="17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itive Urogen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186680" y="1268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norectal 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5435280" y="981000"/>
            <a:ext cx="1873080" cy="1443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5867280" y="1523880"/>
            <a:ext cx="14479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03040" y="26028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rorectal sep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324000" y="836640"/>
            <a:ext cx="12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lo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-6480" y="249228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sicouret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0" y="32004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finitive Urogeni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7529400" y="285264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lvic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524720" y="350028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halic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1835280" y="2852640"/>
            <a:ext cx="1081080" cy="144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>
            <a:off x="1835280" y="3573360"/>
            <a:ext cx="903240" cy="79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H="1">
            <a:off x="5580000" y="3213000"/>
            <a:ext cx="2160720" cy="287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H="1" flipV="1">
            <a:off x="5363640" y="3645000"/>
            <a:ext cx="2016360" cy="712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1692360" y="620640"/>
            <a:ext cx="16002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1619280" y="1125360"/>
            <a:ext cx="1657440" cy="939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324000" y="134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Cloacal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 flipV="1">
            <a:off x="1692360" y="1557360"/>
            <a:ext cx="1008000" cy="7128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Formation of the Trigone &amp; migration of the Mesonephric duc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caudal parts of the mesonephric ducts are absorbed into the wall of the urinary bladder form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ri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mesonephric ducts migrate to open into futur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prostatic urethra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eaving the ureters opening into 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ateral angles of the trig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urinary 2"/>
          <p:cNvPicPr/>
          <p:nvPr/>
        </p:nvPicPr>
        <p:blipFill>
          <a:blip r:embed="rId1"/>
          <a:stretch/>
        </p:blipFill>
        <p:spPr>
          <a:xfrm>
            <a:off x="0" y="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09" name="Line 6"/>
          <p:cNvSpPr/>
          <p:nvPr/>
        </p:nvSpPr>
        <p:spPr>
          <a:xfrm>
            <a:off x="4932360" y="1052640"/>
            <a:ext cx="28728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H="1" flipV="1">
            <a:off x="7451640" y="2565360"/>
            <a:ext cx="720720" cy="43200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 flipH="1">
            <a:off x="7093080" y="1341360"/>
            <a:ext cx="287280" cy="50328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7380360" y="1341360"/>
            <a:ext cx="287280" cy="50328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S2_5_11"/>
          <p:cNvPicPr/>
          <p:nvPr/>
        </p:nvPicPr>
        <p:blipFill>
          <a:blip r:embed="rId1"/>
          <a:stretch/>
        </p:blipFill>
        <p:spPr>
          <a:xfrm>
            <a:off x="0" y="0"/>
            <a:ext cx="4535640" cy="4643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S2_5_11a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0" y="4724280"/>
            <a:ext cx="39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1- mesonephric 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-u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-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508720" y="5013360"/>
            <a:ext cx="1439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4859280" y="486900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5724360" y="2708280"/>
            <a:ext cx="1224000" cy="2233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948360" y="4941720"/>
            <a:ext cx="219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gration of the mesonephric ducts to open into the prostatic ureth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H="1" flipV="1">
            <a:off x="7164000" y="3284280"/>
            <a:ext cx="863640" cy="1657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greater pa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urinary bladder develops from the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vesico-rethral c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apical pa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velops from the proximal par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lant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00b050"/>
                </a:solidFill>
                <a:uFillTx/>
                <a:latin typeface="Arial"/>
              </a:rPr>
              <a:t>distal par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the alantois is obliterated to form the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median umbilical ligament ( Urach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The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ig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velops from the absorbed caudal parts of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esonephric 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f27-9a_urinary_bladder_c"/>
          <p:cNvPicPr/>
          <p:nvPr/>
        </p:nvPicPr>
        <p:blipFill>
          <a:blip r:embed="rId1"/>
          <a:stretch/>
        </p:blipFill>
        <p:spPr>
          <a:xfrm>
            <a:off x="4267080" y="3645000"/>
            <a:ext cx="4876920" cy="2987640"/>
          </a:xfrm>
          <a:prstGeom prst="rect">
            <a:avLst/>
          </a:prstGeom>
          <a:ln w="0">
            <a:noFill/>
          </a:ln>
        </p:spPr>
      </p:pic>
      <p:sp>
        <p:nvSpPr>
          <p:cNvPr id="123" name="Line 5"/>
          <p:cNvSpPr/>
          <p:nvPr/>
        </p:nvSpPr>
        <p:spPr>
          <a:xfrm flipH="1">
            <a:off x="6372360" y="4581360"/>
            <a:ext cx="1295280" cy="21600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H="1">
            <a:off x="5866920" y="3645000"/>
            <a:ext cx="505080" cy="6476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003640" y="3789360"/>
            <a:ext cx="720720" cy="287280"/>
          </a:xfrm>
          <a:prstGeom prst="line">
            <a:avLst/>
          </a:prstGeom>
          <a:ln w="5724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4500720" y="5300640"/>
            <a:ext cx="1223640" cy="4334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cosa of urinary bladder has double origi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rigo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0070c0"/>
                </a:solidFill>
                <a:uFillTx/>
                <a:latin typeface="Arial"/>
              </a:rPr>
              <a:t>mesode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igin develops from the lower parts of both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mesonephric duct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remaining pa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3200" spc="-1" strike="noStrike" u="sng">
                <a:solidFill>
                  <a:srgbClr val="00b0f0"/>
                </a:solidFill>
                <a:uFillTx/>
                <a:latin typeface="Arial"/>
              </a:rPr>
              <a:t>endoderm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origin develops from the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vesico-urethral c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upper part of the primitive urogenital sin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musc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urinary bladder is derived from the splanchnic mesod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Forte"/>
              </a:rPr>
              <a:t>Congenital anomalies of urinary blad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ndalus"/>
              </a:rPr>
              <a:t>Urachal fistula, cyst &amp; sin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anomalies urin"/>
          <p:cNvPicPr/>
          <p:nvPr/>
        </p:nvPicPr>
        <p:blipFill>
          <a:blip r:embed="rId1"/>
          <a:stretch/>
        </p:blipFill>
        <p:spPr>
          <a:xfrm>
            <a:off x="395280" y="1446120"/>
            <a:ext cx="8497800" cy="34228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 flipH="1">
            <a:off x="1258920" y="1197000"/>
            <a:ext cx="1728720" cy="863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H="1">
            <a:off x="4427280" y="1125360"/>
            <a:ext cx="86364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 flipH="1">
            <a:off x="7235640" y="1125360"/>
            <a:ext cx="144360" cy="136692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39640" y="5013360"/>
            <a:ext cx="252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antois fails to oblit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ine passes from the umbil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3276720" y="4869000"/>
            <a:ext cx="25905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ized area of the allantois pers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ory activity of epithelium results in cystic dila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084720" y="5013360"/>
            <a:ext cx="305928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imal part of alantois is obliterated and distal part persis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ous fluid is discharged through umbil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oudy Stout"/>
              </a:rPr>
              <a:t>Ectopia ves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مربع نص 5"/>
          <p:cNvSpPr/>
          <p:nvPr/>
        </p:nvSpPr>
        <p:spPr>
          <a:xfrm>
            <a:off x="142920" y="4214880"/>
            <a:ext cx="885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"/>
              </a:rPr>
              <a:t>posteri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ll of the urinary bladder is exposed to the ex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caused by the failure of the anterior abdominal wall and anterior wall of the bladder to devel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due to inability of the mesoderm of the primitive streak to migrate around the cloaca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24000" y="1203480"/>
            <a:ext cx="604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development of bladder, ureter, and ureth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ongenital anomalies of both the urinary bladder and ureth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the urethra in m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8440" y="763560"/>
            <a:ext cx="4140360" cy="60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 Upper part of prostatic urethr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s from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the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vesico-urethral ca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he Lower part of prostatic ureth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membranous ureth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 from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the</a:t>
            </a: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pelvic part of definitive urogenital sin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The Penile urethr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s fro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b050"/>
                </a:solidFill>
                <a:latin typeface="Arial"/>
              </a:rPr>
              <a:t>the phalic part of definitive urogenital sin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http://www.meddean.luc.edu/lumen/MedEd/radio/curriculum/GU/male_pelvis.jpg"/>
          <p:cNvPicPr/>
          <p:nvPr/>
        </p:nvPicPr>
        <p:blipFill>
          <a:blip r:embed="rId1"/>
          <a:stretch/>
        </p:blipFill>
        <p:spPr>
          <a:xfrm>
            <a:off x="4140360" y="1571760"/>
            <a:ext cx="5003640" cy="5286240"/>
          </a:xfrm>
          <a:prstGeom prst="rect">
            <a:avLst/>
          </a:prstGeom>
          <a:ln w="0">
            <a:noFill/>
          </a:ln>
        </p:spPr>
      </p:pic>
      <p:sp>
        <p:nvSpPr>
          <p:cNvPr id="143" name="رابط مستقيم 9"/>
          <p:cNvSpPr/>
          <p:nvPr/>
        </p:nvSpPr>
        <p:spPr>
          <a:xfrm flipH="1">
            <a:off x="6643800" y="3286080"/>
            <a:ext cx="1440" cy="285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رابط مستقيم 17"/>
          <p:cNvSpPr/>
          <p:nvPr/>
        </p:nvSpPr>
        <p:spPr>
          <a:xfrm flipH="1">
            <a:off x="6571800" y="3571920"/>
            <a:ext cx="73080" cy="5000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شكل حر 20"/>
          <p:cNvSpPr/>
          <p:nvPr/>
        </p:nvSpPr>
        <p:spPr>
          <a:xfrm>
            <a:off x="5072040" y="4114800"/>
            <a:ext cx="1557360" cy="1814400"/>
          </a:xfrm>
          <a:custGeom>
            <a:avLst/>
            <a:gdLst/>
            <a:ahLst/>
            <a:rect l="l" t="t" r="r" b="b"/>
            <a:pathLst>
              <a:path w="1602014" h="2258785">
                <a:moveTo>
                  <a:pt x="1602014" y="0"/>
                </a:moveTo>
                <a:cubicBezTo>
                  <a:pt x="1567542" y="74385"/>
                  <a:pt x="1533071" y="148771"/>
                  <a:pt x="1482271" y="185057"/>
                </a:cubicBezTo>
                <a:cubicBezTo>
                  <a:pt x="1431471" y="221343"/>
                  <a:pt x="1366157" y="212271"/>
                  <a:pt x="1297214" y="217714"/>
                </a:cubicBezTo>
                <a:cubicBezTo>
                  <a:pt x="1228271" y="223157"/>
                  <a:pt x="1168400" y="219528"/>
                  <a:pt x="1068614" y="217714"/>
                </a:cubicBezTo>
                <a:cubicBezTo>
                  <a:pt x="968828" y="215900"/>
                  <a:pt x="785586" y="206829"/>
                  <a:pt x="698500" y="206829"/>
                </a:cubicBezTo>
                <a:cubicBezTo>
                  <a:pt x="611414" y="206829"/>
                  <a:pt x="596900" y="190500"/>
                  <a:pt x="546100" y="217714"/>
                </a:cubicBezTo>
                <a:cubicBezTo>
                  <a:pt x="495300" y="244928"/>
                  <a:pt x="439057" y="299357"/>
                  <a:pt x="393700" y="370114"/>
                </a:cubicBezTo>
                <a:cubicBezTo>
                  <a:pt x="348343" y="440871"/>
                  <a:pt x="324757" y="498928"/>
                  <a:pt x="273957" y="642257"/>
                </a:cubicBezTo>
                <a:cubicBezTo>
                  <a:pt x="223157" y="785586"/>
                  <a:pt x="119743" y="1094015"/>
                  <a:pt x="88900" y="1230086"/>
                </a:cubicBezTo>
                <a:cubicBezTo>
                  <a:pt x="58057" y="1366158"/>
                  <a:pt x="96157" y="1378858"/>
                  <a:pt x="88900" y="1458686"/>
                </a:cubicBezTo>
                <a:cubicBezTo>
                  <a:pt x="81643" y="1538514"/>
                  <a:pt x="54428" y="1605643"/>
                  <a:pt x="45357" y="1709057"/>
                </a:cubicBezTo>
                <a:cubicBezTo>
                  <a:pt x="36286" y="1812471"/>
                  <a:pt x="41728" y="1997528"/>
                  <a:pt x="34471" y="2079171"/>
                </a:cubicBezTo>
                <a:cubicBezTo>
                  <a:pt x="27214" y="2160814"/>
                  <a:pt x="0" y="2258785"/>
                  <a:pt x="1814" y="2198914"/>
                </a:cubicBezTo>
                <a:cubicBezTo>
                  <a:pt x="3628" y="2139043"/>
                  <a:pt x="34471" y="1787072"/>
                  <a:pt x="45357" y="1719943"/>
                </a:cubicBezTo>
                <a:cubicBezTo>
                  <a:pt x="56243" y="1652815"/>
                  <a:pt x="61685" y="1724479"/>
                  <a:pt x="67128" y="1796143"/>
                </a:cubicBezTo>
              </a:path>
            </a:pathLst>
          </a:cu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Bladder_Urethra_Male_560w_cIvyRose"/>
          <p:cNvPicPr/>
          <p:nvPr/>
        </p:nvPicPr>
        <p:blipFill>
          <a:blip r:embed="rId1"/>
          <a:stretch/>
        </p:blipFill>
        <p:spPr>
          <a:xfrm>
            <a:off x="3635280" y="260280"/>
            <a:ext cx="5761080" cy="6597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0" y="69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Upper p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vesicourethral c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19162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he Lower p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the pelvic part of the definitive urogenital s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132000" y="1268280"/>
            <a:ext cx="719280" cy="136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3203280" y="2276280"/>
            <a:ext cx="647640" cy="360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0" y="3143160"/>
            <a:ext cx="31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elvic part of the definitive urogenital s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>
            <a:off x="3071880" y="3571920"/>
            <a:ext cx="492120" cy="288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0" y="4286160"/>
            <a:ext cx="284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the phalic part of the definitive urogenital si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2857680" y="4786200"/>
            <a:ext cx="995040" cy="828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12"/>
          <p:cNvSpPr/>
          <p:nvPr/>
        </p:nvSpPr>
        <p:spPr>
          <a:xfrm>
            <a:off x="0" y="5226120"/>
            <a:ext cx="3571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rrounding connective tissue and smooth muscle tissue is derived from the splanchnic mes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رابط كسهم مستقيم 14"/>
          <p:cNvCxnSpPr/>
          <p:nvPr/>
        </p:nvCxnSpPr>
        <p:spPr>
          <a:xfrm flipH="1">
            <a:off x="3499560" y="5572080"/>
            <a:ext cx="2429640" cy="286560"/>
          </a:xfrm>
          <a:prstGeom prst="straightConnector1">
            <a:avLst/>
          </a:prstGeom>
          <a:ln w="57240">
            <a:solidFill>
              <a:srgbClr val="66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ment of the urethra in fem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http://www.empowher.com/files/ebsco/images/si55550380.jpg"/>
          <p:cNvPicPr/>
          <p:nvPr/>
        </p:nvPicPr>
        <p:blipFill>
          <a:blip r:embed="rId1"/>
          <a:stretch/>
        </p:blipFill>
        <p:spPr>
          <a:xfrm>
            <a:off x="1500120" y="2000160"/>
            <a:ext cx="7643880" cy="4699080"/>
          </a:xfrm>
          <a:prstGeom prst="rect">
            <a:avLst/>
          </a:prstGeom>
          <a:ln w="0">
            <a:noFill/>
          </a:ln>
        </p:spPr>
      </p:pic>
      <p:sp>
        <p:nvSpPr>
          <p:cNvPr id="159" name="مربع نص 7"/>
          <p:cNvSpPr/>
          <p:nvPr/>
        </p:nvSpPr>
        <p:spPr>
          <a:xfrm>
            <a:off x="857160" y="1785960"/>
            <a:ext cx="43578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male urethra develops from the vesicourethra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رابط كسهم مستقيم 9"/>
          <p:cNvCxnSpPr/>
          <p:nvPr/>
        </p:nvCxnSpPr>
        <p:spPr>
          <a:xfrm>
            <a:off x="5286240" y="5643720"/>
            <a:ext cx="1858320" cy="2160"/>
          </a:xfrm>
          <a:prstGeom prst="straightConnector1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Bladder_Urethra_Female_cIvyRose"/>
          <p:cNvPicPr/>
          <p:nvPr/>
        </p:nvPicPr>
        <p:blipFill>
          <a:blip r:embed="rId1"/>
          <a:stretch/>
        </p:blipFill>
        <p:spPr>
          <a:xfrm>
            <a:off x="4114800" y="1413000"/>
            <a:ext cx="5029200" cy="435456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0" y="2276640"/>
            <a:ext cx="34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emale urethra develops from the vesicourethra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0" y="4143240"/>
            <a:ext cx="385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rrounding connective tissue and smooth muscle tissue is derived from the splanchnic mesod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رابط كسهم مستقيم 8"/>
          <p:cNvCxnSpPr/>
          <p:nvPr/>
        </p:nvCxnSpPr>
        <p:spPr>
          <a:xfrm flipH="1" flipV="1">
            <a:off x="3142800" y="3285720"/>
            <a:ext cx="3215520" cy="1572480"/>
          </a:xfrm>
          <a:prstGeom prst="straightConnector1">
            <a:avLst/>
          </a:prstGeom>
          <a:ln w="572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165" name="رابط كسهم مستقيم 11"/>
          <p:cNvCxnSpPr/>
          <p:nvPr/>
        </p:nvCxnSpPr>
        <p:spPr>
          <a:xfrm flipH="1">
            <a:off x="3928680" y="5143680"/>
            <a:ext cx="2215440" cy="143280"/>
          </a:xfrm>
          <a:prstGeom prst="straightConnector1">
            <a:avLst/>
          </a:prstGeom>
          <a:ln w="57240">
            <a:solidFill>
              <a:srgbClr val="6600c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8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8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-92160" y="31680"/>
            <a:ext cx="923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0" y="15228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660033"/>
                </a:solidFill>
                <a:uFillTx/>
                <a:latin typeface="Tahoma"/>
              </a:rPr>
              <a:t>Fate of the primitive urogenital sinus</a:t>
            </a:r>
            <a:r>
              <a:rPr b="1" lang="en-US" sz="3200" spc="-1" strike="noStrike" u="sng">
                <a:solidFill>
                  <a:srgbClr val="660033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- 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Vesicouretheral canal</a:t>
            </a:r>
            <a:r>
              <a:rPr b="1" lang="en-US" sz="3200" spc="-1" strike="noStrike" u="sng">
                <a:solidFill>
                  <a:srgbClr val="ff990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most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urinary bladder in both sex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male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pper ½ of prostatic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.B. Absorbed </a:t>
            </a:r>
            <a:r>
              <a:rPr b="1" lang="en-US" sz="3200" spc="-1" strike="noStrike">
                <a:solidFill>
                  <a:srgbClr val="7575d1"/>
                </a:solidFill>
                <a:latin typeface="Tahoma"/>
              </a:rPr>
              <a:t>mesonephric duc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Trigone of the bladde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ck of female urethera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ack of upper ½ of prostatic urethera</a:t>
            </a:r>
            <a:r>
              <a:rPr b="0" lang="en-US" sz="3200" spc="-1" strike="noStrike">
                <a:solidFill>
                  <a:srgbClr val="d6009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4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-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Pelvic part of the defenitive urogenital sinu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the lower ½ of the prostatic urethera and the membranous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C- Phalic part of  the definitive urogenital sinus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s the 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uretheral pl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is transformed into the </a:t>
            </a:r>
            <a:r>
              <a:rPr b="0" lang="en-US" sz="3200" spc="-1" strike="noStrike">
                <a:solidFill>
                  <a:srgbClr val="00b0f0"/>
                </a:solidFill>
                <a:latin typeface="Tahoma"/>
              </a:rPr>
              <a:t>uretheral canal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t forms the penile urethera except in glans penis which is developed from cord of ectodermal cells which becomes canalized and communicates with rest of the ureth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493560" y="1125360"/>
            <a:ext cx="81568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33"/>
                </a:solidFill>
                <a:uFillTx/>
                <a:latin typeface="Arial"/>
              </a:rPr>
              <a:t>CONGENITAL ANOMALIES OF URETH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pispadiu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urethera opens into the upper surface of pen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ypospadius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urethera opens into the lower surface of peni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4524120" cy="302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"/>
          <p:cNvPicPr/>
          <p:nvPr/>
        </p:nvPicPr>
        <p:blipFill>
          <a:blip r:embed="rId2"/>
          <a:stretch/>
        </p:blipFill>
        <p:spPr>
          <a:xfrm>
            <a:off x="4848120" y="3860640"/>
            <a:ext cx="4295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1547640" y="184464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Forte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-12960" y="25560"/>
            <a:ext cx="450036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The Cloaca is the dilatation of hind gut closed by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ac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The Cloaca receives </a:t>
            </a:r>
            <a:r>
              <a:rPr b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three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open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 Alantois vent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 Mesonephric ducts one on each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artitioning_tract"/>
          <p:cNvPicPr/>
          <p:nvPr/>
        </p:nvPicPr>
        <p:blipFill>
          <a:blip r:embed="rId1"/>
          <a:stretch/>
        </p:blipFill>
        <p:spPr>
          <a:xfrm>
            <a:off x="4572000" y="409680"/>
            <a:ext cx="4286160" cy="6448320"/>
          </a:xfrm>
          <a:prstGeom prst="rect">
            <a:avLst/>
          </a:prstGeom>
          <a:ln w="0">
            <a:noFill/>
          </a:ln>
        </p:spPr>
      </p:pic>
      <p:sp>
        <p:nvSpPr>
          <p:cNvPr id="54" name="Line 6"/>
          <p:cNvSpPr/>
          <p:nvPr/>
        </p:nvSpPr>
        <p:spPr>
          <a:xfrm>
            <a:off x="5292720" y="476280"/>
            <a:ext cx="719280" cy="730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7236000" y="836640"/>
            <a:ext cx="720720" cy="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5148360" y="1341360"/>
            <a:ext cx="936360" cy="287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395280" y="3933720"/>
            <a:ext cx="343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 Black"/>
                <a:ea typeface="Andalus"/>
              </a:rPr>
              <a:t>Division of the cloa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0" y="1052640"/>
            <a:ext cx="370836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curs during 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7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Urorectal septu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is a mesodermal septum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vides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oac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Primitiv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urogenital sin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nteri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norectal cana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sterio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8"/>
          <p:cNvSpPr/>
          <p:nvPr/>
        </p:nvSpPr>
        <p:spPr>
          <a:xfrm flipH="1">
            <a:off x="6659280" y="3860640"/>
            <a:ext cx="1081080" cy="36036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932360" y="3357720"/>
            <a:ext cx="1224000" cy="35856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0"/>
          <p:cNvSpPr/>
          <p:nvPr/>
        </p:nvSpPr>
        <p:spPr>
          <a:xfrm flipH="1" flipV="1">
            <a:off x="6372000" y="5013360"/>
            <a:ext cx="647640" cy="93672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https://syllabus.med.unc.edu/courseware/embryo_images/unit-digest/digest_gifs/digest036.gif"/>
          <p:cNvPicPr/>
          <p:nvPr/>
        </p:nvPicPr>
        <p:blipFill>
          <a:blip r:embed="rId1"/>
          <a:stretch/>
        </p:blipFill>
        <p:spPr>
          <a:xfrm>
            <a:off x="3708360" y="2205000"/>
            <a:ext cx="5327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108360" y="549360"/>
            <a:ext cx="3738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division of the cloaca, the </a:t>
            </a: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anorectal ca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continuous with the hindgut to form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ct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Anal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http://clinicalgate.com/wp-content/uploads/2015/06/B9781455727940000152_f015-013-9781455727940.jpg"/>
          <p:cNvPicPr/>
          <p:nvPr/>
        </p:nvPicPr>
        <p:blipFill>
          <a:blip r:embed="rId1"/>
          <a:stretch/>
        </p:blipFill>
        <p:spPr>
          <a:xfrm>
            <a:off x="3708360" y="692280"/>
            <a:ext cx="5327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urinary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sion of cloacal 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membr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1341360"/>
            <a:ext cx="3564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0" y="1066680"/>
            <a:ext cx="41562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orect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eptu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vides the  </a:t>
            </a:r>
            <a:r>
              <a:rPr b="1" lang="en-US" sz="3200" spc="-1" strike="noStrike">
                <a:solidFill>
                  <a:srgbClr val="00b050"/>
                </a:solidFill>
                <a:latin typeface="Arial"/>
              </a:rPr>
              <a:t>Cloacal membran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urogenital membra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teri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The anal membra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osterio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https://classconnection.s3.amazonaws.com/962/flashcards/3550962/jpg/pn_4-142343EF016453BCD41.jpg"/>
          <p:cNvPicPr/>
          <p:nvPr/>
        </p:nvPicPr>
        <p:blipFill>
          <a:blip r:embed="rId1"/>
          <a:stretch/>
        </p:blipFill>
        <p:spPr>
          <a:xfrm>
            <a:off x="4156200" y="1738440"/>
            <a:ext cx="48384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Elephant"/>
              </a:rPr>
              <a:t>Cloacal memb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Forte"/>
              </a:rPr>
              <a:t>urogenit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          (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anteriorly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)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6600cc"/>
                </a:solidFill>
                <a:latin typeface="Forte"/>
              </a:rPr>
              <a:t>ana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                                                     (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posteriorly</a:t>
            </a:r>
            <a:r>
              <a:rPr b="0" lang="en-US" sz="2800" spc="-1" strike="noStrike">
                <a:solidFill>
                  <a:srgbClr val="000000"/>
                </a:solidFill>
                <a:latin typeface="Fort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5"/>
          <p:cNvSpPr/>
          <p:nvPr/>
        </p:nvSpPr>
        <p:spPr>
          <a:xfrm flipH="1">
            <a:off x="2771280" y="2060640"/>
            <a:ext cx="1582920" cy="19447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6"/>
          <p:cNvSpPr/>
          <p:nvPr/>
        </p:nvSpPr>
        <p:spPr>
          <a:xfrm>
            <a:off x="4356000" y="2060640"/>
            <a:ext cx="2303640" cy="288108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membrane2"/>
          <p:cNvPicPr/>
          <p:nvPr/>
        </p:nvPicPr>
        <p:blipFill>
          <a:blip r:embed="rId1"/>
          <a:stretch/>
        </p:blipFill>
        <p:spPr>
          <a:xfrm>
            <a:off x="1258920" y="765000"/>
            <a:ext cx="7559640" cy="516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084720" y="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rogenita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6443640" y="602136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Anal membr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7093080" y="692280"/>
            <a:ext cx="215640" cy="136836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308720" y="4797360"/>
            <a:ext cx="142920" cy="1224000"/>
          </a:xfrm>
          <a:prstGeom prst="line">
            <a:avLst/>
          </a:prstGeom>
          <a:ln w="5724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0" y="2205000"/>
            <a:ext cx="13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Urorectal sep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1187280" y="2637000"/>
            <a:ext cx="936720" cy="86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8:21:58Z</dcterms:created>
  <dc:creator>XP</dc:creator>
  <dc:description/>
  <dc:language>en-US</dc:language>
  <cp:lastModifiedBy>Rania Jabr</cp:lastModifiedBy>
  <dcterms:modified xsi:type="dcterms:W3CDTF">2016-04-17T22:00:15Z</dcterms:modified>
  <cp:revision>45</cp:revision>
  <dc:subject/>
  <dc:title>بسم الله الرحمن الرحيم</dc:title>
</cp:coreProperties>
</file>